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083-C141-47FA-BE15-CE8B8550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CF27-3F9A-42BB-98A4-C9E95001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BC0-C2EF-402E-B561-73E7424E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B41-10C2-483E-A1B0-406C8109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5D7E-6FAD-422B-8871-96D4285B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2168-E254-4FE9-B850-91AAFCD6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44DD-F0C5-4288-8C13-65B3BDAB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04CE-9326-48D3-BC4B-76B4CC95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C26E-BC8F-4807-B20C-19ECAEF4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9E88-A4D3-42A3-9A38-33433C6A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7638-FAF9-4DEB-BA28-4CE9133D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0B2E-4555-4235-B049-95BC2E96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6CA5-D6C1-455E-9BCF-9C7C7E9A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321D-C603-4DE0-84F6-4F3A960E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843F-DD07-4D01-B7C8-3DACEFFC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3196-D61B-4DA1-A2C5-3482F1B7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DB58-33A1-41AE-962B-28019F1F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6CAC-9B75-4E9D-96DA-2854563B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746-EC4B-4AEF-B8E5-298BBA37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AF6D-F883-47A2-8BF9-BBDB75E8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8CC6-6E57-4BD8-B2DA-5C64196B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428C-619B-4F59-98D5-B0E6AFF4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C73-AD53-42C9-84E8-3B3BEEE2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1CB7-6B82-4702-9207-A22E96E5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7E72-B9AE-4AFD-ADC1-CB4D083500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C5C7-63BE-404D-A061-A806F79F25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685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600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21320" y="227160"/>
            <a:ext cx="399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stituição de 193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2376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t. 2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São do domínio da Uniã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 – os bens que a esta pertencem, nos termos das leis atualmente em  vigo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I – os lagos e quaisquer correntes em terreno do seu domínio, ou que banhem mais de um Estado, sirvam de limites com outros países ou se estendam à território estrangeir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II – as ilhas fluviais e lacustres nas zonas fronteiriç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t. 2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São do domínio dos Estad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 – os bens da propriedade destes pela legislação atualmente em vigor, com as restrições do artigo antecedent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I – as margens dos rios e lagos navegáveis destinados ao uso público, se por algum título não forem do domínio federal, municipal ou parti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0199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45:56Z</dcterms:created>
  <dc:creator>Alexandre Braule</dc:creator>
  <dc:description/>
  <dc:language>en-US</dc:language>
  <cp:lastModifiedBy>Alexandre Braule</cp:lastModifiedBy>
  <dcterms:modified xsi:type="dcterms:W3CDTF">2004-08-10T17:33:20Z</dcterms:modified>
  <cp:revision>69</cp:revision>
  <dc:subject/>
  <dc:title>Apresentação do PowerPoint</dc:title>
</cp:coreProperties>
</file>